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DCAF-C179-47E0-AC62-B3DF8C93E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18B5-D35D-4750-B8F8-F1292B975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E38B-434D-4532-BBC7-08BC35A58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8756-3816-4116-B948-824C700EF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DCDF-93FC-410E-B6F3-C06E050C9F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2265-DFD8-4744-87B0-A9C2C91DCB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B00C-86B3-4D29-A43C-46597B2B18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305E-4ADE-45F3-BDAA-AB5CB766C3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A0DD-68E3-4C02-8192-B03BD1137F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EA21-CA45-444C-A237-86FA7D1328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BAA8-674E-4A30-9179-52FFDDB64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EC03-C0AB-4D79-A9B4-677E3D6A2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1A62-C0DD-49C3-A4E8-9BD4BCEDA9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1D39-7FB7-4282-9650-5F3FDBBC3E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9612-8158-46CC-8E40-88DA73B80C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F55B-3689-4B50-9799-8CAC094338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751B-A97F-405C-BA3B-421EBE7213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1EC-0FB3-47AF-B5FE-4718F0E263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7E3-1055-4156-8FAB-1806D4D191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566-AC20-45C1-85A4-40F2697784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271-C567-4FFB-88F0-22E912CC9B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92D-D8D3-490F-AD0E-AA10D9110B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9FB9-A808-429F-B41A-B9EA9FDBD8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3FB-B438-4950-AB6E-05125156EA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E35-3B72-4211-B921-E8844520D9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BCE-A4DC-4051-8A6E-53DA2F98DE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5D8-DE8D-4B8D-8EBB-9EE41114BE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2EA-6F0A-449D-819C-849E5BC8E2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F7F-73AE-45FB-A6F7-FEA8068CAC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16F-5021-4B42-9101-5EF91190A1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AE3D5-4B2F-44A8-A0C4-DF66181485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1B857-7F93-458F-A9DE-B7AB09768C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C95AA-9AD5-426B-B956-9516A2B03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C02C-B261-4982-AB62-281D998354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EEA08-ECB9-4236-B5A1-AE5DD99B28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5AE6F-7845-467C-BC44-0CC01BE482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A3122-FEDE-423C-89C5-8C13AA47F4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AB501-DCD1-44E4-8FCA-5AE6BE4BE9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9BE78-39EA-433F-941D-8738FDEE97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46F02-8BE7-4C42-9E73-647EBD6153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7C3E6-D486-41AB-8D0D-83D2571A54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7C5C1-27B8-47CC-B8F1-2EB1EF3179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AFC8F-C27C-4A3B-A160-C6380296BC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E19BB-8463-4494-8483-B9C471996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F369-8136-40B3-9094-7FA1BD18D8E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D85F0-42D6-4FC4-A3D9-1D87064659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E488E-EB99-44DB-B2E9-AA1FB19772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FCA3E-E6C2-4FE7-A43E-6893007421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E0001-42F8-439E-807C-CC497D7C61C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C3037-E90E-45C3-A0E1-4AA213A1D4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80FDD-43D4-42DD-9094-33C2A7F079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EA520-8D20-45FC-B3A3-6B40E2763A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7877D-32CE-4FF0-82E0-BCE37C8FF0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0A8EB-7921-4A5E-88B4-1D83E89A69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E6ADC-09C3-4197-8991-80CD5B1EA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E3DD-71A2-4DE0-8D9C-1EC5F9E79C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F32A2-6FAE-4F6E-BD23-F8C482B4DF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8061-E2FB-44DC-9C67-5F124584EF4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7135-37ED-40BD-95A9-064E7DC4A77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B2A-75BA-4017-843C-79797E2EDB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2B64-E98B-4FA5-A413-BBE4491317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506E-DD50-4CAA-A8EF-29AB19CDAB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ABC-7F07-4D9A-B0B8-986E75CDD35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CBA9-2D40-49D0-A25B-D8FAFB22A7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06FC-DF0E-49B8-B481-2C0BACCB79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3862-F70E-4609-B7B0-B7F1F771C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AB68-D329-4D6F-B43A-548436AA4C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B6A6-4B6D-477A-8694-A91402F3681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C4DA-5ACA-48BA-BA15-A427656BDDC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CE1D-C3BF-4C67-BD66-0471665CEDD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B5684-BB03-499A-871E-8EB7C5B489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5BA2F8-53B5-432C-A9BF-DCDD3788A4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C763B-9EA3-46C4-A892-B3ADB671D9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2468F-CFC3-40EE-8100-6D350C9490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F5501-5520-4B89-AFC3-5B805301DA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3BD1A2-B72B-4D18-B2FA-958CD854FB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47E48-510B-4F87-96C4-3D9EDD40B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6FCA-AC44-4EC3-8E22-4C5303C0DA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684C7-58AA-4D24-9C67-7BF8545EF8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D3F21-7797-48CF-8794-873D9A7F10D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496F3-2275-4CC6-9B13-FC73BA34F7E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DBE77C-0A8F-4DE3-A123-7164EDD0E4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AEC59-FF90-4324-881B-EF13257E53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BB52B-932C-41F0-A614-4818C1C8975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CDAD0-74D7-419F-96E5-A02B8B69C29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B48F8-A0C8-4222-87B6-8C439CFECE9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76840-1518-4989-A282-BF1D64F83F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EE08D-0DCA-47C4-91E2-508313A6F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EBA2-7712-4D90-A355-329D9A586C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B3F3F-9893-4A84-9A33-CC7F1A8788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A6E03-5A13-41BE-A095-5BDF9EC10F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523A7-C891-47C9-96C4-D8F20DDB4B8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C175E-13BA-4893-81C4-3C6FD36CF2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A8216-44DF-4437-A43C-8822D806C51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11884-DFE9-4B21-92D0-42857E9FA1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762CF-D4AC-4E3E-81E3-606400EF4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3ecf3"/>
                </a:solidFill>
                <a:latin typeface="Lucida Grande"/>
              </a:rPr>
              <a:t>Click to edit the title text format</a:t>
            </a:r>
            <a:endParaRPr b="1" lang="en-US" sz="56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32274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24660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49356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74052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DF9F-83D7-40FD-AC71-E5C6784F9C73}" type="slidenum">
              <a: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768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1" lang="en-US" sz="2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9120" y="2827440"/>
            <a:ext cx="2210040" cy="2179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1" marL="498960" indent="-205560"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2" marL="727200" indent="-205560">
              <a:spcBef>
                <a:spcPts val="2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3" marL="954000" indent="-173880">
              <a:spcBef>
                <a:spcPts val="2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4" marL="1181880" indent="-173880">
              <a:spcBef>
                <a:spcPts val="2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5" marL="1181880" indent="-173880">
              <a:spcBef>
                <a:spcPts val="2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6" marL="1181880" indent="-173880">
              <a:spcBef>
                <a:spcPts val="2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F24F-EFE3-4538-9A11-735EF7E44A3F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-2476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149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424160" indent="-20988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064-9808-433A-AA7C-17732E82DB5C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Num" idx="4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7A37-ECD4-44A2-AC02-06C39AF7B61F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1880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47200" indent="-225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797040" indent="-22536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45800" indent="-19044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295640" indent="-19080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295640" indent="-19080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295640" indent="-19080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7D52-AA11-479F-8E35-0CFC296BB318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5CCD-39FA-4448-AD46-B267C58FED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37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777240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4efc5"/>
                </a:solidFill>
                <a:latin typeface="Lucida Grande"/>
              </a:rPr>
              <a:t>Click to edit the title text format</a:t>
            </a:r>
            <a:endParaRPr b="1" lang="en-US" sz="5600" spc="-1" strike="noStrike">
              <a:solidFill>
                <a:srgbClr val="54efc5"/>
              </a:solidFill>
              <a:latin typeface="Lucida Gran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30280" y="270324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2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1" marL="18396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2" marL="32652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3" marL="48852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4" marL="63108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5" marL="63108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6" marL="63108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B3CC-7C74-4397-B787-C6B45A8F5631}" type="slidenum">
              <a: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4f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1" marL="1717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2" marL="3589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3" marL="54648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4" marL="73404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5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6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8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9CB3-7602-43ED-9FE5-B3A4DD3E96C0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20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3ecf3"/>
                </a:solidFill>
                <a:latin typeface="Lucida Grande"/>
              </a:rPr>
              <a:t>Causes of the crusades</a:t>
            </a:r>
            <a:endParaRPr b="1" lang="en-US" sz="56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160" y="32274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flipH="1" rot="11220000">
            <a:off x="3164040" y="110808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 flipH="1" rot="11220000">
            <a:off x="8002080" y="535932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 flipH="1" rot="10800000">
            <a:off x="-9360" y="5816160"/>
            <a:ext cx="9162720" cy="10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c5ce">
                  <a:alpha val="55294"/>
                </a:srgbClr>
              </a:gs>
              <a:gs pos="100000">
                <a:srgbClr val="00729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 flipH="1" rot="10800000">
            <a:off x="4380480" y="6249600"/>
            <a:ext cx="4762440" cy="60804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89be">
                  <a:alpha val="45098"/>
                </a:srgbClr>
              </a:gs>
              <a:gs pos="100000">
                <a:srgbClr val="009fa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768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Lucida Grande"/>
              </a:rPr>
              <a:t>A letter from byzantine…</a:t>
            </a:r>
            <a:endParaRPr b="1" lang="en-US" sz="2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2827080"/>
            <a:ext cx="2210040" cy="38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ith the massacre Byzantine Emperor Alexis sends a letter to Pope Urban Asking for Help… he will regret this later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261960" y="931680"/>
            <a:ext cx="5062320" cy="4465440"/>
            <a:chOff x="3261960" y="931680"/>
            <a:chExt cx="5062320" cy="4465440"/>
          </a:xfrm>
        </p:grpSpPr>
        <p:sp>
          <p:nvSpPr>
            <p:cNvPr id="414" name=""/>
            <p:cNvSpPr/>
            <p:nvPr/>
          </p:nvSpPr>
          <p:spPr>
            <a:xfrm rot="420000">
              <a:off x="3484080" y="1198080"/>
              <a:ext cx="4617720" cy="393192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2"/>
            <a:srcRect l="0" t="11781" r="0" b="11781"/>
            <a:stretch/>
          </p:blipFill>
          <p:spPr>
            <a:xfrm rot="420000">
              <a:off x="3484080" y="1198080"/>
              <a:ext cx="4617720" cy="3931920"/>
            </a:xfrm>
            <a:prstGeom prst="rect">
              <a:avLst/>
            </a:prstGeom>
            <a:ln cap="rnd" w="3240">
              <a:solidFill>
                <a:srgbClr val="c0c0c0"/>
              </a:solidFill>
              <a:round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pe’s Response(column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Pope Urban II called for the defeat of the Turks, returning the Holy Land to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4000680" cy="36860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53352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423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09480" y="19080"/>
            <a:ext cx="762012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431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4" name=""/>
            <p:cNvSpPr/>
            <p:nvPr/>
          </p:nvSpPr>
          <p:spPr>
            <a:xfrm>
              <a:off x="0" y="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3348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urks Kill 3k Christians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6696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Merchants &amp; Pope want Trade Routes and food 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0224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European nobles fighting among themselve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3572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62946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444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7" name=""/>
            <p:cNvSpPr/>
            <p:nvPr/>
          </p:nvSpPr>
          <p:spPr>
            <a:xfrm>
              <a:off x="0" y="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3348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urks Kill 3k Christians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6696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Merchants &amp; Pope want Trade Routes and Food 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0224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European nobles fighting among themselve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3572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Regain Control of the “Holy Land”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62946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27200" y="61920"/>
            <a:ext cx="76881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40680" tIns="0" bIns="0" anchor="t">
            <a:noAutofit/>
          </a:bodyPr>
          <a:p>
            <a:pPr marL="396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hy all the figh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2040" y="950760"/>
            <a:ext cx="33019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rial"/>
                <a:ea typeface="Arial"/>
              </a:rPr>
              <a:t>Christians, Muslims, and Jews all believe that the city of Jerusalem is a holy place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rial Bold"/>
                <a:ea typeface="Arial Bold"/>
              </a:rPr>
              <a:t>To Muslims it was where Muhammad ascended into Heaven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rial Bold"/>
                <a:ea typeface="Arial Bold"/>
              </a:rPr>
              <a:t>To Jews it was the promised land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rial Bold"/>
                <a:ea typeface="Arial Bold"/>
              </a:rPr>
              <a:t>To Christians it was where Jesus was crucified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772080" y="1981080"/>
            <a:ext cx="53719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 flipH="1" rot="11220000">
            <a:off x="3164040" y="110808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"/>
          <p:cNvSpPr/>
          <p:nvPr/>
        </p:nvSpPr>
        <p:spPr>
          <a:xfrm flipH="1" rot="11220000">
            <a:off x="8002080" y="535932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"/>
          <p:cNvSpPr/>
          <p:nvPr/>
        </p:nvSpPr>
        <p:spPr>
          <a:xfrm flipH="1" rot="10800000">
            <a:off x="-9360" y="5816160"/>
            <a:ext cx="9162720" cy="10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c5ce">
                  <a:alpha val="55294"/>
                </a:srgbClr>
              </a:gs>
              <a:gs pos="100000">
                <a:srgbClr val="00729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"/>
          <p:cNvSpPr/>
          <p:nvPr/>
        </p:nvSpPr>
        <p:spPr>
          <a:xfrm flipH="1" rot="10800000">
            <a:off x="4380480" y="6249600"/>
            <a:ext cx="4762440" cy="60804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89be">
                  <a:alpha val="45098"/>
                </a:srgbClr>
              </a:gs>
              <a:gs pos="100000">
                <a:srgbClr val="009fa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8320" y="9684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cc"/>
                </a:solidFill>
                <a:latin typeface="Lucida Grande"/>
              </a:rPr>
              <a:t>What were the Crusades?</a:t>
            </a:r>
            <a:endParaRPr b="1" lang="en-US" sz="2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2827080"/>
            <a:ext cx="2210040" cy="38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90b00"/>
                </a:solidFill>
                <a:uFillTx/>
                <a:latin typeface="Lucida Grande"/>
              </a:rPr>
              <a:t>A religious war between Christians  and Muslims for the control of “the Holy Land.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261960" y="931680"/>
            <a:ext cx="5062320" cy="4465440"/>
            <a:chOff x="3261960" y="931680"/>
            <a:chExt cx="5062320" cy="4465440"/>
          </a:xfrm>
        </p:grpSpPr>
        <p:sp>
          <p:nvSpPr>
            <p:cNvPr id="331" name=""/>
            <p:cNvSpPr/>
            <p:nvPr/>
          </p:nvSpPr>
          <p:spPr>
            <a:xfrm rot="420000">
              <a:off x="3484080" y="1198080"/>
              <a:ext cx="4617720" cy="393192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2"/>
            <a:srcRect l="17456" t="0" r="17456" b="0"/>
            <a:stretch/>
          </p:blipFill>
          <p:spPr>
            <a:xfrm rot="420000">
              <a:off x="3484080" y="1198080"/>
              <a:ext cx="4617720" cy="3931920"/>
            </a:xfrm>
            <a:prstGeom prst="rect">
              <a:avLst/>
            </a:prstGeom>
            <a:ln cap="rnd" w="3240">
              <a:solidFill>
                <a:srgbClr val="c0c0c0"/>
              </a:solidFill>
              <a:round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36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6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cc"/>
                </a:solidFill>
                <a:latin typeface="Lucida Grande"/>
              </a:rPr>
              <a:t>What is a Crusade?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</a:rPr>
              <a:t>any vigorous, aggressive movement for the defense or advancement of an idea, cause, etc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</a:rPr>
              <a:t>A crusade is also a war declared by a Pop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How might a Crusade benefit?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Pope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Knight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Lor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Merchant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f you were Muslim you would call the crusades the Frankish invasion, after the group of people invading your lan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43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dcc"/>
                </a:solidFill>
                <a:latin typeface="Lucida Grande"/>
              </a:rPr>
              <a:t>Before the Crusade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Muslims allowed Christian pilgrims to Jerusalem because it brought new sources of revenue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2712"/>
                </a:solidFill>
                <a:latin typeface="Lucida Grande"/>
              </a:rPr>
              <a:t>Pilgrimages were a way of being forgiven for your sins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Violence is ripping apart Europe as Nobles are fighting among themselves.(Column 4)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Famine beginning to spread across the Continent as mini ice age slows crop production(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50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49160" y="863640"/>
            <a:ext cx="7620120" cy="5333760"/>
            <a:chOff x="749160" y="863640"/>
            <a:chExt cx="7620120" cy="5333760"/>
          </a:xfrm>
        </p:grpSpPr>
        <p:sp>
          <p:nvSpPr>
            <p:cNvPr id="353" name=""/>
            <p:cNvSpPr/>
            <p:nvPr/>
          </p:nvSpPr>
          <p:spPr>
            <a:xfrm>
              <a:off x="749160" y="863640"/>
              <a:ext cx="7620120" cy="1546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9160" y="2432520"/>
              <a:ext cx="15048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76280" y="2432520"/>
              <a:ext cx="15066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05200" y="2432520"/>
              <a:ext cx="15066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3760" y="2432520"/>
              <a:ext cx="15066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2432520"/>
              <a:ext cx="15048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9160" y="5763960"/>
              <a:ext cx="7620120" cy="4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63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2600" y="12600"/>
            <a:ext cx="9144000" cy="6858000"/>
            <a:chOff x="12600" y="12600"/>
            <a:chExt cx="9144000" cy="6858000"/>
          </a:xfrm>
        </p:grpSpPr>
        <p:sp>
          <p:nvSpPr>
            <p:cNvPr id="366" name=""/>
            <p:cNvSpPr/>
            <p:nvPr/>
          </p:nvSpPr>
          <p:spPr>
            <a:xfrm>
              <a:off x="12600" y="1260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600" y="20286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46080" y="20286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79560" y="20286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14840" y="20286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48320" y="20286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600" y="63072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76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Seljuk Turks 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1880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Persian Muslim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Did not allow Christian Pilgrims into Jerusalem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Persecuted Christians who were there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3000 Christians are massacred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338720" cy="31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84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7" name=""/>
            <p:cNvSpPr/>
            <p:nvPr/>
          </p:nvSpPr>
          <p:spPr>
            <a:xfrm>
              <a:off x="0" y="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3348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urks Kill 3k Christians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6696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224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3572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62946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97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0" name=""/>
            <p:cNvSpPr/>
            <p:nvPr/>
          </p:nvSpPr>
          <p:spPr>
            <a:xfrm>
              <a:off x="0" y="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348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urks Kill 3k Christians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6696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Pope wants Trade Routes and Turks defeated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224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3572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2946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nife Von Ludwin</dc:creator>
  <dc:description/>
  <dc:language>en-US</dc:language>
  <cp:lastModifiedBy/>
  <cp:revision>0</cp:revision>
  <dc:subject/>
  <dc:title>Causes of the crusades</dc:title>
</cp:coreProperties>
</file>